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7EF48-88DD-4AF9-8089-4BEFB8A0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4437-5ADD-4321-9CEF-467E2738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492A-5C49-4EB8-8083-F6568C1C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9972C-FE5D-413A-9E2F-DC316A48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BCA4-DC41-4FA3-8771-557020ED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4A6C-4C82-480F-8CCA-5115422D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07E4-8B31-4263-AF8D-3125AA64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97FC-692C-495D-8F99-5C647250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6A47-012F-4B32-8C15-69234C25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C0F1-0B1D-4879-83F4-A18B4A9C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5E5E-6B14-40A8-929C-BCD930FD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F189-7A28-4E3A-88E6-ACF23F6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DC11-0D87-4C96-96B9-47480ACF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4F17-56E1-40B1-AF0D-F9F2D1F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AC51-0AD2-4273-8AEC-A1536D4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69F-9702-40B6-B96D-EE33ACE2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28F2-513F-4857-BFAC-1D3EC153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F47A-7B28-41A2-9028-9248D92E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5DB3-E855-461B-8DC5-3EFE3322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72D80-334B-4713-A8CA-86E078A5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953F-345B-4F3B-8EDC-BA7E01ED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63BA1-EA1F-48B5-A53E-D729213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DEE7B-3D94-41D3-9F29-1B722782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FAA97-398A-48DB-8190-A3A35AC2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7A8-63E4-4680-A6F3-6FD0C4F21C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37D-F7ED-4E9A-BCF5-569E18CF98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rcp.org/images/userimages/Selman%2520Bats.jpg&amp;imgrefurl=http://www.trcp.org/if_swg_twwsteering.aspx&amp;h=1161&amp;w=1570&amp;sz=1084&amp;hl=en&amp;start=42&amp;tbnid=UcJpye3CvahpYM:&amp;tbnh=111&amp;tbnw=150&amp;prev=/images%3Fq%3Dbats%26start%3D40%26gbv%3D2%26ndsp%3D20%26hl%3Den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cmaster.ca/research/sciencecity/bat2.jpg&amp;imgrefurl=http://www.mcmaster.ca/research/sciencecity/faure.htm&amp;h=313&amp;w=296&amp;sz=123&amp;hl=en&amp;start=50&amp;tbnid=abaMpRjvf5WDaM:&amp;tbnh=117&amp;tbnw=111&amp;prev=/images%3Fq%3Dbats%26start%3D40%26gbv%3D2%26ndsp%3D20%26hl%3Den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tcs.info/bats/bats1.jpg&amp;imgrefurl=http://www.otcs.info/bats/index.php&amp;h=480&amp;w=640&amp;sz=85&amp;hl=en&amp;start=119&amp;tbnid=uNRyz-iiUCxzlM:&amp;tbnh=103&amp;tbnw=137&amp;prev=/images%3Fq%3Dbats%26start%3D100%26gbv%3D2%26ndsp%3D20%26hl%3Den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ln-store.com/catalog/bats.gif&amp;imgrefurl=http://www.hln-store.com/servlet/Detail%3Fno%3D463&amp;h=300&amp;w=400&amp;sz=67&amp;hl=en&amp;start=101&amp;tbnid=JwYFg0nq6AGCbM:&amp;tbnh=93&amp;tbnw=124&amp;prev=/images%3Fq%3Dbats%26start%3D100%26gbv%3D2%26ndsp%3D20%26hl%3Den%26sa%3DN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raftywerks.com/snaps/Austin/bats2.jpg&amp;imgrefurl=http://coolthingsinrandomplaces.com/we-cant-stop-here-this-is-bat-country/&amp;h=538&amp;w=902&amp;sz=124&amp;hl=en&amp;start=91&amp;tbnid=EU8E0taSjgJMDM:&amp;tbnh=87&amp;tbnw=146&amp;prev=/images%3Fq%3Dbats%26start%3D80%26gbv%3D2%26ndsp%3D20%26hl%3Den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Ba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 Jar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60760"/>
            <a:ext cx="2590920" cy="239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553080" y="4289400"/>
            <a:ext cx="2590920" cy="25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Like Bats? Then read and find out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48040"/>
            <a:ext cx="3429000" cy="3009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280120" y="3809880"/>
            <a:ext cx="3863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know bats sleep in the day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sleep in the  day because they’re nocturn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26708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867360" y="4695840"/>
            <a:ext cx="2276640" cy="21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know what bats do at night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go looking for their pr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592520"/>
            <a:ext cx="3352680" cy="2265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429680" y="514368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o you know where they sleep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can sleep in a dark cave in the c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9112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781680" y="5181480"/>
            <a:ext cx="23623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id you know that bats can’t live in cold places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cause their wings will freez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257640"/>
            <a:ext cx="4276800" cy="360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3520" y="4479840"/>
            <a:ext cx="3030480" cy="23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9920" y="325080"/>
            <a:ext cx="8078760" cy="91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 hope you enjoyed the story!    The End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3276720" cy="214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26668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17:04:45Z</dcterms:modified>
  <cp:revision>5</cp:revision>
  <dc:subject/>
  <dc:title>Animal Name</dc:title>
</cp:coreProperties>
</file>